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14800" cy="375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03880" cy="451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3359160" cy="48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dt" idx="4"/>
          </p:nvPr>
        </p:nvSpPr>
        <p:spPr>
          <a:xfrm>
            <a:off x="4398480" y="0"/>
            <a:ext cx="3359160" cy="48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59160" cy="48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59160" cy="48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5D77A5-20E2-4D97-8691-A1EB85B600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0532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0532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0532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0532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0532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0532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0532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0532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0532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0532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0532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0532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0532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0532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0532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0532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0532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68395-D974-4A8B-9425-2081ED635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5652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56520" cy="2373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66800"/>
            <a:ext cx="9056520" cy="2373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9D378-CAFD-4BEF-94BB-D36E9D500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5652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19360" cy="2373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3680" y="1767960"/>
            <a:ext cx="4419360" cy="2373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66800"/>
            <a:ext cx="4419360" cy="2373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3680" y="4366800"/>
            <a:ext cx="4419360" cy="2373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E4779-34CA-4359-971A-A02BCC531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5652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2916000" cy="2373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5080" y="1767960"/>
            <a:ext cx="2916000" cy="2373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27240" y="1767960"/>
            <a:ext cx="2916000" cy="2373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66800"/>
            <a:ext cx="2916000" cy="2373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5080" y="4366800"/>
            <a:ext cx="2916000" cy="2373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27240" y="4366800"/>
            <a:ext cx="2916000" cy="2373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E187C-9201-4AA4-804E-785D8247F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5652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7960"/>
            <a:ext cx="9056520" cy="497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9B55A-F098-4BCF-8D59-F0407EA27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5652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56520" cy="4975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DE2C6-C8A9-4CF7-8A6A-DD10AE49C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5652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19360" cy="4975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3680" y="1767960"/>
            <a:ext cx="4419360" cy="4975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01242-71B6-40D5-B42A-932837F20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5652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AD84B-0245-4196-9961-193EF27EC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680"/>
            <a:ext cx="9056520" cy="578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97ADD-49CF-418F-A9A7-DE4E40BA9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5652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19360" cy="2373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3680" y="1767960"/>
            <a:ext cx="4419360" cy="4975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66800"/>
            <a:ext cx="4419360" cy="2373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42283-A9F4-4A89-9E66-FB983AF25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5652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19360" cy="4975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3680" y="1767960"/>
            <a:ext cx="4419360" cy="2373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3680" y="4366800"/>
            <a:ext cx="4419360" cy="2373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DDBCC-30A6-446A-A0ED-9286D0A6A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5652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19360" cy="2373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3680" y="1767960"/>
            <a:ext cx="4419360" cy="2373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66800"/>
            <a:ext cx="9056520" cy="2373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325AA-5B8E-4BF3-B90C-3388439D9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5652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7960"/>
            <a:ext cx="9056520" cy="4975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7157880"/>
            <a:ext cx="2333520" cy="3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3/15/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7157880"/>
            <a:ext cx="3181320" cy="3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02 Emergency Services Tutori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7157880"/>
            <a:ext cx="2333880" cy="3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##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fcc.gov/cgb/consumerfacts/voip911.pdf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fcc.gov/" TargetMode="External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2920" y="290520"/>
            <a:ext cx="9070920" cy="128592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802 EMERGENCY SERVICES TUTORI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t">
            <a:normAutofit/>
          </a:bodyPr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y 802 needs an Emergency Services Project and what we think it should look lik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802 ES-ECS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eoff Thompson/InterDigita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cott Henderson/RIM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ephen McCann/RIM for 802.11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hil Barber/Huawei for 802.1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2920" y="290520"/>
            <a:ext cx="9070920" cy="128592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lex Problem?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55119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UPPORT for the full scope of EMERGENCY SERVICES and THEIR (present and future) REGULATORY REQUIREMENTS FOR PACKET NETWORKS IS A HUGE, COMPLEX PROBLEM FOR WHICH THE PROBLEM ITSELF IS NOT YET FULLY DEFINED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scope for this project is much smaller and well defined i.e.:</a:t>
            </a:r>
            <a:br>
              <a:rPr sz="4400"/>
            </a:b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nly support VoIP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itizen-to-authority calls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Comple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t">
            <a:normAutofit/>
          </a:bodyPr>
          <a:p>
            <a:pPr marL="4190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0840"/>
                <a:tab algn="l" pos="533520"/>
                <a:tab algn="l" pos="990720"/>
                <a:tab algn="l" pos="1447920"/>
                <a:tab algn="l" pos="1905120"/>
                <a:tab algn="l" pos="2362320"/>
                <a:tab algn="l" pos="2819520"/>
                <a:tab algn="l" pos="3276720"/>
                <a:tab algn="l" pos="3733920"/>
                <a:tab algn="l" pos="4191120"/>
                <a:tab algn="l" pos="4648320"/>
                <a:tab algn="l" pos="5105520"/>
                <a:tab algn="l" pos="5562720"/>
                <a:tab algn="l" pos="6019920"/>
                <a:tab algn="l" pos="6477120"/>
                <a:tab algn="l" pos="6934320"/>
                <a:tab algn="l" pos="7391520"/>
                <a:tab algn="l" pos="7848720"/>
                <a:tab algn="l" pos="8305920"/>
                <a:tab algn="l" pos="8763120"/>
                <a:tab algn="l" pos="922032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re are pieces of the ES problem that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19040" indent="-314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0840"/>
                <a:tab algn="l" pos="533520"/>
                <a:tab algn="l" pos="990720"/>
                <a:tab algn="l" pos="1447920"/>
                <a:tab algn="l" pos="1905120"/>
                <a:tab algn="l" pos="2362320"/>
                <a:tab algn="l" pos="2819520"/>
                <a:tab algn="l" pos="3276720"/>
                <a:tab algn="l" pos="3733920"/>
                <a:tab algn="l" pos="4191120"/>
                <a:tab algn="l" pos="4648320"/>
                <a:tab algn="l" pos="5105520"/>
                <a:tab algn="l" pos="5562720"/>
                <a:tab algn="l" pos="6019920"/>
                <a:tab algn="l" pos="6477120"/>
                <a:tab algn="l" pos="6934320"/>
                <a:tab algn="l" pos="7391520"/>
                <a:tab algn="l" pos="7848720"/>
                <a:tab algn="l" pos="8305920"/>
                <a:tab algn="l" pos="8763120"/>
                <a:tab algn="l" pos="922032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re well defined to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19040" indent="-314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0840"/>
                <a:tab algn="l" pos="533520"/>
                <a:tab algn="l" pos="990720"/>
                <a:tab algn="l" pos="1447920"/>
                <a:tab algn="l" pos="1905120"/>
                <a:tab algn="l" pos="2362320"/>
                <a:tab algn="l" pos="2819520"/>
                <a:tab algn="l" pos="3276720"/>
                <a:tab algn="l" pos="3733920"/>
                <a:tab algn="l" pos="4191120"/>
                <a:tab algn="l" pos="4648320"/>
                <a:tab algn="l" pos="5105520"/>
                <a:tab algn="l" pos="5562720"/>
                <a:tab algn="l" pos="6019920"/>
                <a:tab algn="l" pos="6477120"/>
                <a:tab algn="l" pos="6934320"/>
                <a:tab algn="l" pos="7391520"/>
                <a:tab algn="l" pos="7848720"/>
                <a:tab algn="l" pos="8305920"/>
                <a:tab algn="l" pos="8763120"/>
                <a:tab algn="l" pos="922032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ave existing regulatory (or derivative) require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19040" indent="-314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0840"/>
                <a:tab algn="l" pos="533520"/>
                <a:tab algn="l" pos="990720"/>
                <a:tab algn="l" pos="1447920"/>
                <a:tab algn="l" pos="1905120"/>
                <a:tab algn="l" pos="2362320"/>
                <a:tab algn="l" pos="2819520"/>
                <a:tab algn="l" pos="3276720"/>
                <a:tab algn="l" pos="3733920"/>
                <a:tab algn="l" pos="4191120"/>
                <a:tab algn="l" pos="4648320"/>
                <a:tab algn="l" pos="5105520"/>
                <a:tab algn="l" pos="5562720"/>
                <a:tab algn="l" pos="6019920"/>
                <a:tab algn="l" pos="6477120"/>
                <a:tab algn="l" pos="6934320"/>
                <a:tab algn="l" pos="7391520"/>
                <a:tab algn="l" pos="7848720"/>
                <a:tab algn="l" pos="8305920"/>
                <a:tab algn="l" pos="8763120"/>
                <a:tab algn="l" pos="922032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re not addressed across 802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90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0840"/>
                <a:tab algn="l" pos="533520"/>
                <a:tab algn="l" pos="990720"/>
                <a:tab algn="l" pos="1447920"/>
                <a:tab algn="l" pos="1905120"/>
                <a:tab algn="l" pos="2362320"/>
                <a:tab algn="l" pos="2819520"/>
                <a:tab algn="l" pos="3276720"/>
                <a:tab algn="l" pos="3733920"/>
                <a:tab algn="l" pos="4191120"/>
                <a:tab algn="l" pos="4648320"/>
                <a:tab algn="l" pos="5105520"/>
                <a:tab algn="l" pos="5562720"/>
                <a:tab algn="l" pos="6019920"/>
                <a:tab algn="l" pos="6477120"/>
                <a:tab algn="l" pos="6934320"/>
                <a:tab algn="l" pos="7391520"/>
                <a:tab algn="l" pos="7848720"/>
                <a:tab algn="l" pos="8305920"/>
                <a:tab algn="l" pos="8763120"/>
                <a:tab algn="l" pos="922032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5247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190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0840"/>
                <a:tab algn="l" pos="533520"/>
                <a:tab algn="l" pos="990720"/>
                <a:tab algn="l" pos="1447920"/>
                <a:tab algn="l" pos="1905120"/>
                <a:tab algn="l" pos="2362320"/>
                <a:tab algn="l" pos="2819520"/>
                <a:tab algn="l" pos="3276720"/>
                <a:tab algn="l" pos="3733920"/>
                <a:tab algn="l" pos="4191120"/>
                <a:tab algn="l" pos="4648320"/>
                <a:tab algn="l" pos="5105520"/>
                <a:tab algn="l" pos="5562720"/>
                <a:tab algn="l" pos="6019920"/>
                <a:tab algn="l" pos="6477120"/>
                <a:tab algn="l" pos="6934320"/>
                <a:tab algn="l" pos="7391520"/>
                <a:tab algn="l" pos="7848720"/>
                <a:tab algn="l" pos="8305920"/>
                <a:tab algn="l" pos="8763120"/>
                <a:tab algn="l" pos="922032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biggest piec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9040" indent="-314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0840"/>
                <a:tab algn="l" pos="533520"/>
                <a:tab algn="l" pos="990720"/>
                <a:tab algn="l" pos="1447920"/>
                <a:tab algn="l" pos="1905120"/>
                <a:tab algn="l" pos="2362320"/>
                <a:tab algn="l" pos="2819520"/>
                <a:tab algn="l" pos="3276720"/>
                <a:tab algn="l" pos="3733920"/>
                <a:tab algn="l" pos="4191120"/>
                <a:tab algn="l" pos="4648320"/>
                <a:tab algn="l" pos="5105520"/>
                <a:tab algn="l" pos="5562720"/>
                <a:tab algn="l" pos="6019920"/>
                <a:tab algn="l" pos="6477120"/>
                <a:tab algn="l" pos="6934320"/>
                <a:tab algn="l" pos="7391520"/>
                <a:tab algn="l" pos="7848720"/>
                <a:tab algn="l" pos="8305920"/>
                <a:tab algn="l" pos="8763120"/>
                <a:tab algn="l" pos="922032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02 originated (and VoIP originated) “calls” to the PSTN don't carry the information required (e.g. location) for emergency call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here are proprietary exception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9040" indent="-314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0840"/>
                <a:tab algn="l" pos="533520"/>
                <a:tab algn="l" pos="990720"/>
                <a:tab algn="l" pos="1447920"/>
                <a:tab algn="l" pos="1905120"/>
                <a:tab algn="l" pos="2362320"/>
                <a:tab algn="l" pos="2819520"/>
                <a:tab algn="l" pos="3276720"/>
                <a:tab algn="l" pos="3733920"/>
                <a:tab algn="l" pos="4191120"/>
                <a:tab algn="l" pos="4648320"/>
                <a:tab algn="l" pos="5105520"/>
                <a:tab algn="l" pos="5562720"/>
                <a:tab algn="l" pos="6019920"/>
                <a:tab algn="l" pos="6477120"/>
                <a:tab algn="l" pos="6934320"/>
                <a:tab algn="l" pos="7391520"/>
                <a:tab algn="l" pos="7848720"/>
                <a:tab algn="l" pos="8305920"/>
                <a:tab algn="l" pos="8763120"/>
                <a:tab algn="l" pos="922032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are uncoordinated pieces within some WG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9040" indent="-314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0840"/>
                <a:tab algn="l" pos="533520"/>
                <a:tab algn="l" pos="990720"/>
                <a:tab algn="l" pos="1447920"/>
                <a:tab algn="l" pos="1905120"/>
                <a:tab algn="l" pos="2362320"/>
                <a:tab algn="l" pos="2819520"/>
                <a:tab algn="l" pos="3276720"/>
                <a:tab algn="l" pos="3733920"/>
                <a:tab algn="l" pos="4191120"/>
                <a:tab algn="l" pos="4648320"/>
                <a:tab algn="l" pos="5105520"/>
                <a:tab algn="l" pos="5562720"/>
                <a:tab algn="l" pos="6019920"/>
                <a:tab algn="l" pos="6477120"/>
                <a:tab algn="l" pos="6934320"/>
                <a:tab algn="l" pos="7391520"/>
                <a:tab algn="l" pos="7848720"/>
                <a:tab algn="l" pos="8305920"/>
                <a:tab algn="l" pos="8763120"/>
                <a:tab algn="l" pos="922032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are existing IETF requirements for these ES calls that are not being met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90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0840"/>
                <a:tab algn="l" pos="533520"/>
                <a:tab algn="l" pos="990720"/>
                <a:tab algn="l" pos="1447920"/>
                <a:tab algn="l" pos="1905120"/>
                <a:tab algn="l" pos="2362320"/>
                <a:tab algn="l" pos="2819520"/>
                <a:tab algn="l" pos="3276720"/>
                <a:tab algn="l" pos="3733920"/>
                <a:tab algn="l" pos="4191120"/>
                <a:tab algn="l" pos="4648320"/>
                <a:tab algn="l" pos="5105520"/>
                <a:tab algn="l" pos="5562720"/>
                <a:tab algn="l" pos="6019920"/>
                <a:tab algn="l" pos="6477120"/>
                <a:tab algn="l" pos="6934320"/>
                <a:tab algn="l" pos="7391520"/>
                <a:tab algn="l" pos="7848720"/>
                <a:tab algn="l" pos="8305920"/>
                <a:tab algn="l" pos="8763120"/>
                <a:tab algn="l" pos="922032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re about Lo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2920" y="1409400"/>
            <a:ext cx="9070920" cy="5102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4147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0840"/>
                <a:tab algn="l" pos="533520"/>
                <a:tab algn="l" pos="990720"/>
                <a:tab algn="l" pos="1447920"/>
                <a:tab algn="l" pos="1905120"/>
                <a:tab algn="l" pos="2362320"/>
                <a:tab algn="l" pos="2819520"/>
                <a:tab algn="l" pos="3276720"/>
                <a:tab algn="l" pos="3733920"/>
                <a:tab algn="l" pos="4191120"/>
                <a:tab algn="l" pos="4648320"/>
                <a:tab algn="l" pos="5105520"/>
                <a:tab algn="l" pos="5562720"/>
                <a:tab algn="l" pos="6019920"/>
                <a:tab algn="l" pos="6477120"/>
                <a:tab algn="l" pos="6934320"/>
                <a:tab algn="l" pos="7391520"/>
                <a:tab algn="l" pos="7848720"/>
                <a:tab algn="l" pos="8305920"/>
                <a:tab algn="l" pos="8763120"/>
                <a:tab algn="l" pos="922032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VoIP doesn't work for ES calls toda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4720" indent="-3110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0840"/>
                <a:tab algn="l" pos="533520"/>
                <a:tab algn="l" pos="990720"/>
                <a:tab algn="l" pos="1447920"/>
                <a:tab algn="l" pos="1905120"/>
                <a:tab algn="l" pos="2362320"/>
                <a:tab algn="l" pos="2819520"/>
                <a:tab algn="l" pos="3276720"/>
                <a:tab algn="l" pos="3733920"/>
                <a:tab algn="l" pos="4191120"/>
                <a:tab algn="l" pos="4648320"/>
                <a:tab algn="l" pos="5105520"/>
                <a:tab algn="l" pos="5562720"/>
                <a:tab algn="l" pos="6019920"/>
                <a:tab algn="l" pos="6477120"/>
                <a:tab algn="l" pos="6934320"/>
                <a:tab algn="l" pos="7391520"/>
                <a:tab algn="l" pos="7848720"/>
                <a:tab algn="l" pos="8305920"/>
                <a:tab algn="l" pos="8763120"/>
                <a:tab algn="l" pos="922032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Internet was designed to be “location neutral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4720" indent="-3110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0840"/>
                <a:tab algn="l" pos="533520"/>
                <a:tab algn="l" pos="990720"/>
                <a:tab algn="l" pos="1447920"/>
                <a:tab algn="l" pos="1905120"/>
                <a:tab algn="l" pos="2362320"/>
                <a:tab algn="l" pos="2819520"/>
                <a:tab algn="l" pos="3276720"/>
                <a:tab algn="l" pos="3733920"/>
                <a:tab algn="l" pos="4191120"/>
                <a:tab algn="l" pos="4648320"/>
                <a:tab algn="l" pos="5105520"/>
                <a:tab algn="l" pos="5562720"/>
                <a:tab algn="l" pos="6019920"/>
                <a:tab algn="l" pos="6477120"/>
                <a:tab algn="l" pos="6934320"/>
                <a:tab algn="l" pos="7391520"/>
                <a:tab algn="l" pos="7848720"/>
                <a:tab algn="l" pos="8305920"/>
                <a:tab algn="l" pos="8763120"/>
                <a:tab algn="l" pos="922032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ditional “112/911” was designed around and serviced by a localized static wired infrastructure (end office circuit switched system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4720" indent="-3110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0840"/>
                <a:tab algn="l" pos="533520"/>
                <a:tab algn="l" pos="990720"/>
                <a:tab algn="l" pos="1447920"/>
                <a:tab algn="l" pos="1905120"/>
                <a:tab algn="l" pos="2362320"/>
                <a:tab algn="l" pos="2819520"/>
                <a:tab algn="l" pos="3276720"/>
                <a:tab algn="l" pos="3733920"/>
                <a:tab algn="l" pos="4191120"/>
                <a:tab algn="l" pos="4648320"/>
                <a:tab algn="l" pos="5105520"/>
                <a:tab algn="l" pos="5562720"/>
                <a:tab algn="l" pos="6019920"/>
                <a:tab algn="l" pos="6477120"/>
                <a:tab algn="l" pos="6934320"/>
                <a:tab algn="l" pos="7391520"/>
                <a:tab algn="l" pos="7848720"/>
                <a:tab algn="l" pos="8305920"/>
                <a:tab algn="l" pos="8763120"/>
                <a:tab algn="l" pos="922032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IP services are highly decentralized and often cross national boundarie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regulatory proble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re about Locatio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2920" y="1409400"/>
            <a:ext cx="907092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4190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0840"/>
                <a:tab algn="l" pos="533520"/>
                <a:tab algn="l" pos="990720"/>
                <a:tab algn="l" pos="1447920"/>
                <a:tab algn="l" pos="1905120"/>
                <a:tab algn="l" pos="2362320"/>
                <a:tab algn="l" pos="2819520"/>
                <a:tab algn="l" pos="3276720"/>
                <a:tab algn="l" pos="3733920"/>
                <a:tab algn="l" pos="4191120"/>
                <a:tab algn="l" pos="4648320"/>
                <a:tab algn="l" pos="5105520"/>
                <a:tab algn="l" pos="5562720"/>
                <a:tab algn="l" pos="6019920"/>
                <a:tab algn="l" pos="6477120"/>
                <a:tab algn="l" pos="6934320"/>
                <a:tab algn="l" pos="7391520"/>
                <a:tab algn="l" pos="7848720"/>
                <a:tab algn="l" pos="8305920"/>
                <a:tab algn="l" pos="8763120"/>
                <a:tab algn="l" pos="922032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VoIP doesn't work well for ES today (cont'd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9040" indent="-314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0840"/>
                <a:tab algn="l" pos="533520"/>
                <a:tab algn="l" pos="990720"/>
                <a:tab algn="l" pos="1447920"/>
                <a:tab algn="l" pos="1905120"/>
                <a:tab algn="l" pos="2362320"/>
                <a:tab algn="l" pos="2819520"/>
                <a:tab algn="l" pos="3276720"/>
                <a:tab algn="l" pos="3733920"/>
                <a:tab algn="l" pos="4191120"/>
                <a:tab algn="l" pos="4648320"/>
                <a:tab algn="l" pos="5105520"/>
                <a:tab algn="l" pos="5562720"/>
                <a:tab algn="l" pos="6019920"/>
                <a:tab algn="l" pos="6477120"/>
                <a:tab algn="l" pos="6934320"/>
                <a:tab algn="l" pos="7391520"/>
                <a:tab algn="l" pos="7848720"/>
                <a:tab algn="l" pos="8305920"/>
                <a:tab algn="l" pos="8763120"/>
                <a:tab algn="l" pos="922032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day, the VoIP service provider has no knowledge of the caller's location within the Internet (almost true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9040" indent="-314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0840"/>
                <a:tab algn="l" pos="533520"/>
                <a:tab algn="l" pos="990720"/>
                <a:tab algn="l" pos="1447920"/>
                <a:tab algn="l" pos="1905120"/>
                <a:tab algn="l" pos="2362320"/>
                <a:tab algn="l" pos="2819520"/>
                <a:tab algn="l" pos="3276720"/>
                <a:tab algn="l" pos="3733920"/>
                <a:tab algn="l" pos="4191120"/>
                <a:tab algn="l" pos="4648320"/>
                <a:tab algn="l" pos="5105520"/>
                <a:tab algn="l" pos="5562720"/>
                <a:tab algn="l" pos="6019920"/>
                <a:tab algn="l" pos="6477120"/>
                <a:tab algn="l" pos="6934320"/>
                <a:tab algn="l" pos="7391520"/>
                <a:tab algn="l" pos="7848720"/>
                <a:tab algn="l" pos="8305920"/>
                <a:tab algn="l" pos="8763120"/>
                <a:tab algn="l" pos="922032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SAP has no prior knowledge that a caller is within their service are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9040" indent="-314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0840"/>
                <a:tab algn="l" pos="533520"/>
                <a:tab algn="l" pos="990720"/>
                <a:tab algn="l" pos="1447920"/>
                <a:tab algn="l" pos="1905120"/>
                <a:tab algn="l" pos="2362320"/>
                <a:tab algn="l" pos="2819520"/>
                <a:tab algn="l" pos="3276720"/>
                <a:tab algn="l" pos="3733920"/>
                <a:tab algn="l" pos="4191120"/>
                <a:tab algn="l" pos="4648320"/>
                <a:tab algn="l" pos="5105520"/>
                <a:tab algn="l" pos="5562720"/>
                <a:tab algn="l" pos="6019920"/>
                <a:tab algn="l" pos="6477120"/>
                <a:tab algn="l" pos="6934320"/>
                <a:tab algn="l" pos="7391520"/>
                <a:tab algn="l" pos="7848720"/>
                <a:tab algn="l" pos="8305920"/>
                <a:tab algn="l" pos="8763120"/>
                <a:tab algn="l" pos="922032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fore, associating caller and proper PSAP is a big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9040" indent="-314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0840"/>
                <a:tab algn="l" pos="533520"/>
                <a:tab algn="l" pos="990720"/>
                <a:tab algn="l" pos="1447920"/>
                <a:tab algn="l" pos="1905120"/>
                <a:tab algn="l" pos="2362320"/>
                <a:tab algn="l" pos="2819520"/>
                <a:tab algn="l" pos="3276720"/>
                <a:tab algn="l" pos="3733920"/>
                <a:tab algn="l" pos="4191120"/>
                <a:tab algn="l" pos="4648320"/>
                <a:tab algn="l" pos="5105520"/>
                <a:tab algn="l" pos="5562720"/>
                <a:tab algn="l" pos="6019920"/>
                <a:tab algn="l" pos="6477120"/>
                <a:tab algn="l" pos="6934320"/>
                <a:tab algn="l" pos="7391520"/>
                <a:tab algn="l" pos="7848720"/>
                <a:tab algn="l" pos="8305920"/>
                <a:tab algn="l" pos="8763120"/>
                <a:tab algn="l" pos="922032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IP service providers are not sufficiently regulated to fully handle the ES problem; there are significant technical, geopolitical and legal jurisdiction problems involved (language too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ETF &amp; Emergency Servi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4352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t">
            <a:normAutofit/>
          </a:bodyPr>
          <a:p>
            <a:pPr marL="4190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0840"/>
                <a:tab algn="l" pos="533520"/>
                <a:tab algn="l" pos="990720"/>
                <a:tab algn="l" pos="1447920"/>
                <a:tab algn="l" pos="1905120"/>
                <a:tab algn="l" pos="2362320"/>
                <a:tab algn="l" pos="2819520"/>
                <a:tab algn="l" pos="3276720"/>
                <a:tab algn="l" pos="3733920"/>
                <a:tab algn="l" pos="4191120"/>
                <a:tab algn="l" pos="4648320"/>
                <a:tab algn="l" pos="5105520"/>
                <a:tab algn="l" pos="5562720"/>
                <a:tab algn="l" pos="6019920"/>
                <a:tab algn="l" pos="6477120"/>
                <a:tab algn="l" pos="6934320"/>
                <a:tab algn="l" pos="7391520"/>
                <a:tab algn="l" pos="7848720"/>
                <a:tab algn="l" pos="8305920"/>
                <a:tab algn="l" pos="8763120"/>
                <a:tab algn="l" pos="922032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IETF – ECRIT group has taken on the task of solving this problem for the upper layer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190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0840"/>
                <a:tab algn="l" pos="533520"/>
                <a:tab algn="l" pos="990720"/>
                <a:tab algn="l" pos="1447920"/>
                <a:tab algn="l" pos="1905120"/>
                <a:tab algn="l" pos="2362320"/>
                <a:tab algn="l" pos="2819520"/>
                <a:tab algn="l" pos="3276720"/>
                <a:tab algn="l" pos="3733920"/>
                <a:tab algn="l" pos="4191120"/>
                <a:tab algn="l" pos="4648320"/>
                <a:tab algn="l" pos="5105520"/>
                <a:tab algn="l" pos="5562720"/>
                <a:tab algn="l" pos="6019920"/>
                <a:tab algn="l" pos="6477120"/>
                <a:tab algn="l" pos="6934320"/>
                <a:tab algn="l" pos="7391520"/>
                <a:tab algn="l" pos="7848720"/>
                <a:tab algn="l" pos="8305920"/>
                <a:tab algn="l" pos="8763120"/>
                <a:tab algn="l" pos="922032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e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etf.org/dyn/wg/charter/ecrit-charter.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90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0840"/>
                <a:tab algn="l" pos="533520"/>
                <a:tab algn="l" pos="990720"/>
                <a:tab algn="l" pos="1447920"/>
                <a:tab algn="l" pos="1905120"/>
                <a:tab algn="l" pos="2362320"/>
                <a:tab algn="l" pos="2819520"/>
                <a:tab algn="l" pos="3276720"/>
                <a:tab algn="l" pos="3733920"/>
                <a:tab algn="l" pos="4191120"/>
                <a:tab algn="l" pos="4648320"/>
                <a:tab algn="l" pos="5105520"/>
                <a:tab algn="l" pos="5562720"/>
                <a:tab algn="l" pos="6019920"/>
                <a:tab algn="l" pos="6477120"/>
                <a:tab algn="l" pos="6934320"/>
                <a:tab algn="l" pos="7391520"/>
                <a:tab algn="l" pos="7848720"/>
                <a:tab algn="l" pos="8305920"/>
                <a:tab algn="l" pos="8763120"/>
                <a:tab algn="l" pos="922032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 Internet drafts, 7 RF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9040" indent="-314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0840"/>
                <a:tab algn="l" pos="533520"/>
                <a:tab algn="l" pos="990720"/>
                <a:tab algn="l" pos="1447920"/>
                <a:tab algn="l" pos="1905120"/>
                <a:tab algn="l" pos="2362320"/>
                <a:tab algn="l" pos="2819520"/>
                <a:tab algn="l" pos="3276720"/>
                <a:tab algn="l" pos="3733920"/>
                <a:tab algn="l" pos="4191120"/>
                <a:tab algn="l" pos="4648320"/>
                <a:tab algn="l" pos="5105520"/>
                <a:tab algn="l" pos="5562720"/>
                <a:tab algn="l" pos="6019920"/>
                <a:tab algn="l" pos="6477120"/>
                <a:tab algn="l" pos="6934320"/>
                <a:tab algn="l" pos="7391520"/>
                <a:tab algn="l" pos="7848720"/>
                <a:tab algn="l" pos="8305920"/>
                <a:tab algn="l" pos="8763120"/>
                <a:tab algn="l" pos="922032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ludes “Requirements”, “Framework” and “Best Current Practice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90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0840"/>
                <a:tab algn="l" pos="533520"/>
                <a:tab algn="l" pos="990720"/>
                <a:tab algn="l" pos="1447920"/>
                <a:tab algn="l" pos="1905120"/>
                <a:tab algn="l" pos="2362320"/>
                <a:tab algn="l" pos="2819520"/>
                <a:tab algn="l" pos="3276720"/>
                <a:tab algn="l" pos="3733920"/>
                <a:tab algn="l" pos="4191120"/>
                <a:tab algn="l" pos="4648320"/>
                <a:tab algn="l" pos="5105520"/>
                <a:tab algn="l" pos="5562720"/>
                <a:tab algn="l" pos="6019920"/>
                <a:tab algn="l" pos="6477120"/>
                <a:tab algn="l" pos="6934320"/>
                <a:tab algn="l" pos="7391520"/>
                <a:tab algn="l" pos="7848720"/>
                <a:tab algn="l" pos="8305920"/>
                <a:tab algn="l" pos="8763120"/>
                <a:tab algn="l" pos="922032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 also R. Barnes/Hannes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schofenig IET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reso: 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opriv.dreamhosters.com/esw6/PEACE-Vortrag_v5.p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18840" y="417240"/>
            <a:ext cx="907092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CR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71320" y="15843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190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0840"/>
                <a:tab algn="l" pos="533520"/>
                <a:tab algn="l" pos="990720"/>
                <a:tab algn="l" pos="1447920"/>
                <a:tab algn="l" pos="1905120"/>
                <a:tab algn="l" pos="2362320"/>
                <a:tab algn="l" pos="2819520"/>
                <a:tab algn="l" pos="3276720"/>
                <a:tab algn="l" pos="3733920"/>
                <a:tab algn="l" pos="4191120"/>
                <a:tab algn="l" pos="4648320"/>
                <a:tab algn="l" pos="5105520"/>
                <a:tab algn="l" pos="5562720"/>
                <a:tab algn="l" pos="6019920"/>
                <a:tab algn="l" pos="6477120"/>
                <a:tab algn="l" pos="6934320"/>
                <a:tab algn="l" pos="7391520"/>
                <a:tab algn="l" pos="7848720"/>
                <a:tab algn="l" pos="8305920"/>
                <a:tab algn="l" pos="8763120"/>
                <a:tab algn="l" pos="922032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IETF – ECRIT group has taken on the task of solving this problem for the upper lay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90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0840"/>
                <a:tab algn="l" pos="533520"/>
                <a:tab algn="l" pos="990720"/>
                <a:tab algn="l" pos="1447920"/>
                <a:tab algn="l" pos="1905120"/>
                <a:tab algn="l" pos="2362320"/>
                <a:tab algn="l" pos="2819520"/>
                <a:tab algn="l" pos="3276720"/>
                <a:tab algn="l" pos="3733920"/>
                <a:tab algn="l" pos="4191120"/>
                <a:tab algn="l" pos="4648320"/>
                <a:tab algn="l" pos="5105520"/>
                <a:tab algn="l" pos="5562720"/>
                <a:tab algn="l" pos="6019920"/>
                <a:tab algn="l" pos="6477120"/>
                <a:tab algn="l" pos="6934320"/>
                <a:tab algn="l" pos="7391520"/>
                <a:tab algn="l" pos="7848720"/>
                <a:tab algn="l" pos="8305920"/>
                <a:tab algn="l" pos="8763120"/>
                <a:tab algn="l" pos="922032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02 needs to liaise with ECRIT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9040" indent="-314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0840"/>
                <a:tab algn="l" pos="533520"/>
                <a:tab algn="l" pos="990720"/>
                <a:tab algn="l" pos="1447920"/>
                <a:tab algn="l" pos="1905120"/>
                <a:tab algn="l" pos="2362320"/>
                <a:tab algn="l" pos="2819520"/>
                <a:tab algn="l" pos="3276720"/>
                <a:tab algn="l" pos="3733920"/>
                <a:tab algn="l" pos="4191120"/>
                <a:tab algn="l" pos="4648320"/>
                <a:tab algn="l" pos="5105520"/>
                <a:tab algn="l" pos="5562720"/>
                <a:tab algn="l" pos="6019920"/>
                <a:tab algn="l" pos="6477120"/>
                <a:tab algn="l" pos="6934320"/>
                <a:tab algn="l" pos="7391520"/>
                <a:tab algn="l" pos="7848720"/>
                <a:tab algn="l" pos="8305920"/>
                <a:tab algn="l" pos="8763120"/>
                <a:tab algn="l" pos="922032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ide a complete solution that encompasses 802 end network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9040" indent="-314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0840"/>
                <a:tab algn="l" pos="533520"/>
                <a:tab algn="l" pos="990720"/>
                <a:tab algn="l" pos="1447920"/>
                <a:tab algn="l" pos="1905120"/>
                <a:tab algn="l" pos="2362320"/>
                <a:tab algn="l" pos="2819520"/>
                <a:tab algn="l" pos="3276720"/>
                <a:tab algn="l" pos="3733920"/>
                <a:tab algn="l" pos="4191120"/>
                <a:tab algn="l" pos="4648320"/>
                <a:tab algn="l" pos="5105520"/>
                <a:tab algn="l" pos="5562720"/>
                <a:tab algn="l" pos="6019920"/>
                <a:tab algn="l" pos="6477120"/>
                <a:tab algn="l" pos="6934320"/>
                <a:tab algn="l" pos="7391520"/>
                <a:tab algn="l" pos="7848720"/>
                <a:tab algn="l" pos="8305920"/>
                <a:tab algn="l" pos="8763120"/>
                <a:tab algn="l" pos="922032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gree precisely on requirements for 8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90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0840"/>
                <a:tab algn="l" pos="533520"/>
                <a:tab algn="l" pos="990720"/>
                <a:tab algn="l" pos="1447920"/>
                <a:tab algn="l" pos="1905120"/>
                <a:tab algn="l" pos="2362320"/>
                <a:tab algn="l" pos="2819520"/>
                <a:tab algn="l" pos="3276720"/>
                <a:tab algn="l" pos="3733920"/>
                <a:tab algn="l" pos="4191120"/>
                <a:tab algn="l" pos="4648320"/>
                <a:tab algn="l" pos="5105520"/>
                <a:tab algn="l" pos="5562720"/>
                <a:tab algn="l" pos="6019920"/>
                <a:tab algn="l" pos="6477120"/>
                <a:tab algn="l" pos="6934320"/>
                <a:tab algn="l" pos="7391520"/>
                <a:tab algn="l" pos="7848720"/>
                <a:tab algn="l" pos="8305920"/>
                <a:tab algn="l" pos="8763120"/>
                <a:tab algn="l" pos="922032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lution should look the same to ECRIT without regard to which 802 technology is in u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CRIT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02920" y="1444320"/>
            <a:ext cx="9070920" cy="51591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 fontScale="99000"/>
          </a:bodyPr>
          <a:p>
            <a:pPr marL="4147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0840"/>
                <a:tab algn="l" pos="533520"/>
                <a:tab algn="l" pos="990720"/>
                <a:tab algn="l" pos="1447920"/>
                <a:tab algn="l" pos="1905120"/>
                <a:tab algn="l" pos="2362320"/>
                <a:tab algn="l" pos="2819520"/>
                <a:tab algn="l" pos="3276720"/>
                <a:tab algn="l" pos="3733920"/>
                <a:tab algn="l" pos="4191120"/>
                <a:tab algn="l" pos="4648320"/>
                <a:tab algn="l" pos="5105520"/>
                <a:tab algn="l" pos="5562720"/>
                <a:tab algn="l" pos="6019920"/>
                <a:tab algn="l" pos="6477120"/>
                <a:tab algn="l" pos="6934320"/>
                <a:tab algn="l" pos="7391520"/>
                <a:tab algn="l" pos="7848720"/>
                <a:tab algn="l" pos="8305920"/>
                <a:tab algn="l" pos="8763120"/>
                <a:tab algn="l" pos="922032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at does ECRIT need from 802 to meet these requirements?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147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0840"/>
                <a:tab algn="l" pos="533520"/>
                <a:tab algn="l" pos="990720"/>
                <a:tab algn="l" pos="1447920"/>
                <a:tab algn="l" pos="1905120"/>
                <a:tab algn="l" pos="2362320"/>
                <a:tab algn="l" pos="2819520"/>
                <a:tab algn="l" pos="3276720"/>
                <a:tab algn="l" pos="3733920"/>
                <a:tab algn="l" pos="4191120"/>
                <a:tab algn="l" pos="4648320"/>
                <a:tab algn="l" pos="5105520"/>
                <a:tab algn="l" pos="5562720"/>
                <a:tab algn="l" pos="6019920"/>
                <a:tab algn="l" pos="6477120"/>
                <a:tab algn="l" pos="6934320"/>
                <a:tab algn="l" pos="7391520"/>
                <a:tab algn="l" pos="7848720"/>
                <a:tab algn="l" pos="8305920"/>
                <a:tab algn="l" pos="8763120"/>
                <a:tab algn="l" pos="922032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at might IEEE 802 provide to ECRIT to meet these requirements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14720" indent="-3110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0840"/>
                <a:tab algn="l" pos="533520"/>
                <a:tab algn="l" pos="990720"/>
                <a:tab algn="l" pos="1447920"/>
                <a:tab algn="l" pos="1905120"/>
                <a:tab algn="l" pos="2362320"/>
                <a:tab algn="l" pos="2819520"/>
                <a:tab algn="l" pos="3276720"/>
                <a:tab algn="l" pos="3733920"/>
                <a:tab algn="l" pos="4191120"/>
                <a:tab algn="l" pos="4648320"/>
                <a:tab algn="l" pos="5105520"/>
                <a:tab algn="l" pos="5562720"/>
                <a:tab algn="l" pos="6019920"/>
                <a:tab algn="l" pos="6477120"/>
                <a:tab algn="l" pos="6934320"/>
                <a:tab algn="l" pos="7391520"/>
                <a:tab algn="l" pos="7848720"/>
                <a:tab algn="l" pos="8305920"/>
                <a:tab algn="l" pos="8763120"/>
                <a:tab algn="l" pos="922032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vide location of and/or to end statio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14720" indent="-3110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0840"/>
                <a:tab algn="l" pos="533520"/>
                <a:tab algn="l" pos="990720"/>
                <a:tab algn="l" pos="1447920"/>
                <a:tab algn="l" pos="1905120"/>
                <a:tab algn="l" pos="2362320"/>
                <a:tab algn="l" pos="2819520"/>
                <a:tab algn="l" pos="3276720"/>
                <a:tab algn="l" pos="3733920"/>
                <a:tab algn="l" pos="4191120"/>
                <a:tab algn="l" pos="4648320"/>
                <a:tab algn="l" pos="5105520"/>
                <a:tab algn="l" pos="5562720"/>
                <a:tab algn="l" pos="6019920"/>
                <a:tab algn="l" pos="6477120"/>
                <a:tab algn="l" pos="6934320"/>
                <a:tab algn="l" pos="7391520"/>
                <a:tab algn="l" pos="7848720"/>
                <a:tab algn="l" pos="8305920"/>
                <a:tab algn="l" pos="8763120"/>
                <a:tab algn="l" pos="922032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ffer Layer 1 &amp; 2 element location inform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14720" indent="-3110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0840"/>
                <a:tab algn="l" pos="533520"/>
                <a:tab algn="l" pos="990720"/>
                <a:tab algn="l" pos="1447920"/>
                <a:tab algn="l" pos="1905120"/>
                <a:tab algn="l" pos="2362320"/>
                <a:tab algn="l" pos="2819520"/>
                <a:tab algn="l" pos="3276720"/>
                <a:tab algn="l" pos="3733920"/>
                <a:tab algn="l" pos="4191120"/>
                <a:tab algn="l" pos="4648320"/>
                <a:tab algn="l" pos="5105520"/>
                <a:tab algn="l" pos="5562720"/>
                <a:tab algn="l" pos="6019920"/>
                <a:tab algn="l" pos="6477120"/>
                <a:tab algn="l" pos="6934320"/>
                <a:tab algn="l" pos="7391520"/>
                <a:tab algn="l" pos="7848720"/>
                <a:tab algn="l" pos="8305920"/>
                <a:tab algn="l" pos="8763120"/>
                <a:tab algn="l" pos="922032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efer LOCAL connection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(e.g. bypass various tunneling schem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14720" indent="-3110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0840"/>
                <a:tab algn="l" pos="533520"/>
                <a:tab algn="l" pos="990720"/>
                <a:tab algn="l" pos="1447920"/>
                <a:tab algn="l" pos="1905120"/>
                <a:tab algn="l" pos="2362320"/>
                <a:tab algn="l" pos="2819520"/>
                <a:tab algn="l" pos="3276720"/>
                <a:tab algn="l" pos="3733920"/>
                <a:tab algn="l" pos="4191120"/>
                <a:tab algn="l" pos="4648320"/>
                <a:tab algn="l" pos="5105520"/>
                <a:tab algn="l" pos="5562720"/>
                <a:tab algn="l" pos="6019920"/>
                <a:tab algn="l" pos="6477120"/>
                <a:tab algn="l" pos="6934320"/>
                <a:tab algn="l" pos="7391520"/>
                <a:tab algn="l" pos="7848720"/>
                <a:tab algn="l" pos="8305920"/>
                <a:tab algn="l" pos="8763120"/>
                <a:tab algn="l" pos="922032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vide service to unauthenticated user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Initiate &amp; handover/callback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14720" indent="-3110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0840"/>
                <a:tab algn="l" pos="533520"/>
                <a:tab algn="l" pos="990720"/>
                <a:tab algn="l" pos="1447920"/>
                <a:tab algn="l" pos="1905120"/>
                <a:tab algn="l" pos="2362320"/>
                <a:tab algn="l" pos="2819520"/>
                <a:tab algn="l" pos="3276720"/>
                <a:tab algn="l" pos="3733920"/>
                <a:tab algn="l" pos="4191120"/>
                <a:tab algn="l" pos="4648320"/>
                <a:tab algn="l" pos="5105520"/>
                <a:tab algn="l" pos="5562720"/>
                <a:tab algn="l" pos="6019920"/>
                <a:tab algn="l" pos="6477120"/>
                <a:tab algn="l" pos="6934320"/>
                <a:tab algn="l" pos="7391520"/>
                <a:tab algn="l" pos="7848720"/>
                <a:tab algn="l" pos="8305920"/>
                <a:tab algn="l" pos="8763120"/>
                <a:tab algn="l" pos="922032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poofing and security are issu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2920" y="1371240"/>
            <a:ext cx="9070920" cy="52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414720" indent="-3110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19040"/>
                <a:tab algn="l" pos="531720"/>
                <a:tab algn="l" pos="988920"/>
                <a:tab algn="l" pos="1446120"/>
                <a:tab algn="l" pos="1903320"/>
                <a:tab algn="l" pos="2360520"/>
                <a:tab algn="l" pos="2817720"/>
                <a:tab algn="l" pos="3274920"/>
                <a:tab algn="l" pos="3732120"/>
                <a:tab algn="l" pos="4189320"/>
                <a:tab algn="l" pos="4646520"/>
                <a:tab algn="l" pos="5103720"/>
                <a:tab algn="l" pos="5560920"/>
                <a:tab algn="l" pos="6018120"/>
                <a:tab algn="l" pos="6475320"/>
                <a:tab algn="l" pos="6932520"/>
                <a:tab algn="l" pos="7389720"/>
                <a:tab algn="l" pos="7846920"/>
                <a:tab algn="l" pos="8304120"/>
                <a:tab algn="l" pos="8761320"/>
                <a:tab algn="l" pos="921852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tion Emergency Service ECS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4720" indent="-3110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19040"/>
                <a:tab algn="l" pos="531720"/>
                <a:tab algn="l" pos="988920"/>
                <a:tab algn="l" pos="1446120"/>
                <a:tab algn="l" pos="1903320"/>
                <a:tab algn="l" pos="2360520"/>
                <a:tab algn="l" pos="2817720"/>
                <a:tab algn="l" pos="3274920"/>
                <a:tab algn="l" pos="3732120"/>
                <a:tab algn="l" pos="4189320"/>
                <a:tab algn="l" pos="4646520"/>
                <a:tab algn="l" pos="5103720"/>
                <a:tab algn="l" pos="5560920"/>
                <a:tab algn="l" pos="6018120"/>
                <a:tab algn="l" pos="6475320"/>
                <a:tab algn="l" pos="6932520"/>
                <a:tab algn="l" pos="7389720"/>
                <a:tab algn="l" pos="7846920"/>
                <a:tab algn="l" pos="8304120"/>
                <a:tab algn="l" pos="8761320"/>
                <a:tab algn="l" pos="921852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ing for 802.11  - Stephen McCan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4720" indent="-3110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19040"/>
                <a:tab algn="l" pos="531720"/>
                <a:tab algn="l" pos="988920"/>
                <a:tab algn="l" pos="1446120"/>
                <a:tab algn="l" pos="1903320"/>
                <a:tab algn="l" pos="2360520"/>
                <a:tab algn="l" pos="2817720"/>
                <a:tab algn="l" pos="3274920"/>
                <a:tab algn="l" pos="3732120"/>
                <a:tab algn="l" pos="4189320"/>
                <a:tab algn="l" pos="4646520"/>
                <a:tab algn="l" pos="5103720"/>
                <a:tab algn="l" pos="5560920"/>
                <a:tab algn="l" pos="6018120"/>
                <a:tab algn="l" pos="6475320"/>
                <a:tab algn="l" pos="6932520"/>
                <a:tab algn="l" pos="7389720"/>
                <a:tab algn="l" pos="7846920"/>
                <a:tab algn="l" pos="8304120"/>
                <a:tab algn="l" pos="8761320"/>
                <a:tab algn="l" pos="921852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ing for 802.16  - Phil Bar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4720" indent="-3110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19040"/>
                <a:tab algn="l" pos="531720"/>
                <a:tab algn="l" pos="988920"/>
                <a:tab algn="l" pos="1446120"/>
                <a:tab algn="l" pos="1903320"/>
                <a:tab algn="l" pos="2360520"/>
                <a:tab algn="l" pos="2817720"/>
                <a:tab algn="l" pos="3274920"/>
                <a:tab algn="l" pos="3732120"/>
                <a:tab algn="l" pos="4189320"/>
                <a:tab algn="l" pos="4646520"/>
                <a:tab algn="l" pos="5103720"/>
                <a:tab algn="l" pos="5560920"/>
                <a:tab algn="l" pos="6018120"/>
                <a:tab algn="l" pos="6475320"/>
                <a:tab algn="l" pos="6932520"/>
                <a:tab algn="l" pos="7389720"/>
                <a:tab algn="l" pos="7846920"/>
                <a:tab algn="l" pos="8304120"/>
                <a:tab algn="l" pos="8761320"/>
                <a:tab algn="l" pos="921852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ergency Services EC Study Gro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42400" indent="-314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19040"/>
                <a:tab algn="l" pos="531720"/>
                <a:tab algn="l" pos="988920"/>
                <a:tab algn="l" pos="1446120"/>
                <a:tab algn="l" pos="1903320"/>
                <a:tab algn="l" pos="2360520"/>
                <a:tab algn="l" pos="2817720"/>
                <a:tab algn="l" pos="3274920"/>
                <a:tab algn="l" pos="3732120"/>
                <a:tab algn="l" pos="4189320"/>
                <a:tab algn="l" pos="4646520"/>
                <a:tab algn="l" pos="5103720"/>
                <a:tab algn="l" pos="5560920"/>
                <a:tab algn="l" pos="6018120"/>
                <a:tab algn="l" pos="6475320"/>
                <a:tab algn="l" pos="6932520"/>
                <a:tab algn="l" pos="7389720"/>
                <a:tab algn="l" pos="7846920"/>
                <a:tab algn="l" pos="8304120"/>
                <a:tab algn="l" pos="8761320"/>
                <a:tab algn="l" pos="921852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enter 1/Geoff Thomp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42400" indent="-314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19040"/>
                <a:tab algn="l" pos="531720"/>
                <a:tab algn="l" pos="988920"/>
                <a:tab algn="l" pos="1446120"/>
                <a:tab algn="l" pos="1903320"/>
                <a:tab algn="l" pos="2360520"/>
                <a:tab algn="l" pos="2817720"/>
                <a:tab algn="l" pos="3274920"/>
                <a:tab algn="l" pos="3732120"/>
                <a:tab algn="l" pos="4189320"/>
                <a:tab algn="l" pos="4646520"/>
                <a:tab algn="l" pos="5103720"/>
                <a:tab algn="l" pos="5560920"/>
                <a:tab algn="l" pos="6018120"/>
                <a:tab algn="l" pos="6475320"/>
                <a:tab algn="l" pos="6932520"/>
                <a:tab algn="l" pos="7389720"/>
                <a:tab algn="l" pos="7846920"/>
                <a:tab algn="l" pos="8304120"/>
                <a:tab algn="l" pos="8761320"/>
                <a:tab algn="l" pos="921852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enter 2/Scott Hender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4720" indent="-3110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19040"/>
                <a:tab algn="l" pos="531720"/>
                <a:tab algn="l" pos="988920"/>
                <a:tab algn="l" pos="1446120"/>
                <a:tab algn="l" pos="1903320"/>
                <a:tab algn="l" pos="2360520"/>
                <a:tab algn="l" pos="2817720"/>
                <a:tab algn="l" pos="3274920"/>
                <a:tab algn="l" pos="3732120"/>
                <a:tab algn="l" pos="4189320"/>
                <a:tab algn="l" pos="4646520"/>
                <a:tab algn="l" pos="5103720"/>
                <a:tab algn="l" pos="5560920"/>
                <a:tab algn="l" pos="6018120"/>
                <a:tab algn="l" pos="6475320"/>
                <a:tab algn="l" pos="6932520"/>
                <a:tab algn="l" pos="7389720"/>
                <a:tab algn="l" pos="7846920"/>
                <a:tab algn="l" pos="8304120"/>
                <a:tab algn="l" pos="8761320"/>
                <a:tab algn="l" pos="921852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42400" indent="-314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419040"/>
                <a:tab algn="l" pos="531720"/>
                <a:tab algn="l" pos="988920"/>
                <a:tab algn="l" pos="1446120"/>
                <a:tab algn="l" pos="1903320"/>
                <a:tab algn="l" pos="2360520"/>
                <a:tab algn="l" pos="2817720"/>
                <a:tab algn="l" pos="3274920"/>
                <a:tab algn="l" pos="3732120"/>
                <a:tab algn="l" pos="4189320"/>
                <a:tab algn="l" pos="4646520"/>
                <a:tab algn="l" pos="5103720"/>
                <a:tab algn="l" pos="5560920"/>
                <a:tab algn="l" pos="6018120"/>
                <a:tab algn="l" pos="6475320"/>
                <a:tab algn="l" pos="6932520"/>
                <a:tab algn="l" pos="7389720"/>
                <a:tab algn="l" pos="7846920"/>
                <a:tab algn="l" pos="8304120"/>
                <a:tab algn="l" pos="8761320"/>
                <a:tab algn="l" pos="921852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 &amp;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42400" indent="-314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419040"/>
                <a:tab algn="l" pos="531720"/>
                <a:tab algn="l" pos="988920"/>
                <a:tab algn="l" pos="1446120"/>
                <a:tab algn="l" pos="1903320"/>
                <a:tab algn="l" pos="2360520"/>
                <a:tab algn="l" pos="2817720"/>
                <a:tab algn="l" pos="3274920"/>
                <a:tab algn="l" pos="3732120"/>
                <a:tab algn="l" pos="4189320"/>
                <a:tab algn="l" pos="4646520"/>
                <a:tab algn="l" pos="5103720"/>
                <a:tab algn="l" pos="5560920"/>
                <a:tab algn="l" pos="6018120"/>
                <a:tab algn="l" pos="6475320"/>
                <a:tab algn="l" pos="6932520"/>
                <a:tab algn="l" pos="7389720"/>
                <a:tab algn="l" pos="7846920"/>
                <a:tab algn="l" pos="8304120"/>
                <a:tab algn="l" pos="8761320"/>
                <a:tab algn="l" pos="921852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aw Po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echnical/Regulatory Problem Stat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2920" y="1479240"/>
            <a:ext cx="9070920" cy="552132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711360"/>
                <a:tab algn="l" pos="1434960"/>
                <a:tab algn="l" pos="2171880"/>
                <a:tab algn="l" pos="2882880"/>
                <a:tab algn="l" pos="3606840"/>
                <a:tab algn="l" pos="4330800"/>
                <a:tab algn="l" pos="5054760"/>
                <a:tab algn="l" pos="5778360"/>
                <a:tab algn="l" pos="6515280"/>
                <a:tab algn="l" pos="7226280"/>
                <a:tab algn="l" pos="7950240"/>
                <a:tab algn="l" pos="8674200"/>
                <a:tab algn="l" pos="9131400"/>
                <a:tab algn="l" pos="9588600"/>
                <a:tab algn="l" pos="10045800"/>
                <a:tab algn="l" pos="10503000"/>
                <a:tab algn="l" pos="10504440"/>
                <a:tab algn="l" pos="10506240"/>
                <a:tab algn="l" pos="10507680"/>
                <a:tab algn="l" pos="105091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S Historical Case) 911 Call Origination Identification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iginally based on the wireline legacy incumbent local exchange carriers' databases of thei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711360"/>
                <a:tab algn="l" pos="1434960"/>
                <a:tab algn="l" pos="2171880"/>
                <a:tab algn="l" pos="2882880"/>
                <a:tab algn="l" pos="3606840"/>
                <a:tab algn="l" pos="4330800"/>
                <a:tab algn="l" pos="5054760"/>
                <a:tab algn="l" pos="5778360"/>
                <a:tab algn="l" pos="6515280"/>
                <a:tab algn="l" pos="7226280"/>
                <a:tab algn="l" pos="7950240"/>
                <a:tab algn="l" pos="8674200"/>
                <a:tab algn="l" pos="9131400"/>
                <a:tab algn="l" pos="9588600"/>
                <a:tab algn="l" pos="10045800"/>
                <a:tab algn="l" pos="10503000"/>
                <a:tab algn="l" pos="10504440"/>
                <a:tab algn="l" pos="10506240"/>
                <a:tab algn="l" pos="10507680"/>
                <a:tab algn="l" pos="105091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legacy system in its original form was seriously compromised 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1040" indent="-31752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43080"/>
                <a:tab algn="l" pos="711360"/>
                <a:tab algn="l" pos="1434960"/>
                <a:tab algn="l" pos="2171880"/>
                <a:tab algn="l" pos="2882880"/>
                <a:tab algn="l" pos="3606840"/>
                <a:tab algn="l" pos="4330800"/>
                <a:tab algn="l" pos="5054760"/>
                <a:tab algn="l" pos="5778360"/>
                <a:tab algn="l" pos="6515280"/>
                <a:tab algn="l" pos="7226280"/>
                <a:tab algn="l" pos="7950240"/>
                <a:tab algn="l" pos="8674200"/>
                <a:tab algn="l" pos="9131400"/>
                <a:tab algn="l" pos="9588600"/>
                <a:tab algn="l" pos="10045800"/>
                <a:tab algn="l" pos="10503000"/>
                <a:tab algn="l" pos="10504440"/>
                <a:tab algn="l" pos="10506240"/>
                <a:tab algn="l" pos="10507680"/>
                <a:tab algn="l" pos="105091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cal phone service ceased to be dominated by a wireline monopo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1040" indent="-31752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43080"/>
                <a:tab algn="l" pos="711360"/>
                <a:tab algn="l" pos="1434960"/>
                <a:tab algn="l" pos="2171880"/>
                <a:tab algn="l" pos="2882880"/>
                <a:tab algn="l" pos="3606840"/>
                <a:tab algn="l" pos="4330800"/>
                <a:tab algn="l" pos="5054760"/>
                <a:tab algn="l" pos="5778360"/>
                <a:tab algn="l" pos="6515280"/>
                <a:tab algn="l" pos="7226280"/>
                <a:tab algn="l" pos="7950240"/>
                <a:tab algn="l" pos="8674200"/>
                <a:tab algn="l" pos="9131400"/>
                <a:tab algn="l" pos="9588600"/>
                <a:tab algn="l" pos="10045800"/>
                <a:tab algn="l" pos="10503000"/>
                <a:tab algn="l" pos="10504440"/>
                <a:tab algn="l" pos="10506240"/>
                <a:tab algn="l" pos="10507680"/>
                <a:tab algn="l" pos="105091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llular phones became significant. (They had no built-in location mechanism. They also had a weakened sense of just where they wanted to call for 911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1040" indent="-31752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43080"/>
                <a:tab algn="l" pos="711360"/>
                <a:tab algn="l" pos="1434960"/>
                <a:tab algn="l" pos="2171880"/>
                <a:tab algn="l" pos="2882880"/>
                <a:tab algn="l" pos="3606840"/>
                <a:tab algn="l" pos="4330800"/>
                <a:tab algn="l" pos="5054760"/>
                <a:tab algn="l" pos="5778360"/>
                <a:tab algn="l" pos="6515280"/>
                <a:tab algn="l" pos="7226280"/>
                <a:tab algn="l" pos="7950240"/>
                <a:tab algn="l" pos="8674200"/>
                <a:tab algn="l" pos="9131400"/>
                <a:tab algn="l" pos="9588600"/>
                <a:tab algn="l" pos="10045800"/>
                <a:tab algn="l" pos="10503000"/>
                <a:tab algn="l" pos="10504440"/>
                <a:tab algn="l" pos="10506240"/>
                <a:tab algn="l" pos="10507680"/>
                <a:tab algn="l" pos="105091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IP phone services grew. VoIP has no inherent caller or call target physical location knowled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1040" indent="-31752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43080"/>
                <a:tab algn="l" pos="711360"/>
                <a:tab algn="l" pos="1434960"/>
                <a:tab algn="l" pos="2171880"/>
                <a:tab algn="l" pos="2882880"/>
                <a:tab algn="l" pos="3606840"/>
                <a:tab algn="l" pos="4330800"/>
                <a:tab algn="l" pos="5054760"/>
                <a:tab algn="l" pos="5778360"/>
                <a:tab algn="l" pos="6515280"/>
                <a:tab algn="l" pos="7226280"/>
                <a:tab algn="l" pos="7950240"/>
                <a:tab algn="l" pos="8674200"/>
                <a:tab algn="l" pos="9131400"/>
                <a:tab algn="l" pos="9588600"/>
                <a:tab algn="l" pos="10045800"/>
                <a:tab algn="l" pos="10503000"/>
                <a:tab algn="l" pos="10504440"/>
                <a:tab algn="l" pos="10506240"/>
                <a:tab algn="l" pos="10507680"/>
                <a:tab algn="l" pos="105091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reless inherent authentication was weaken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echnical Problem Stat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03280" y="1407600"/>
            <a:ext cx="9097920" cy="54500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17600" indent="0">
              <a:lnSpc>
                <a:spcPct val="73000"/>
              </a:lnSpc>
              <a:spcAft>
                <a:spcPts val="1426"/>
              </a:spcAft>
              <a:buNone/>
              <a:tabLst>
                <a:tab algn="l" pos="0"/>
                <a:tab algn="l" pos="419040"/>
                <a:tab algn="l" pos="531720"/>
                <a:tab algn="l" pos="988920"/>
                <a:tab algn="l" pos="1446120"/>
                <a:tab algn="l" pos="1903320"/>
                <a:tab algn="l" pos="2360520"/>
                <a:tab algn="l" pos="2817720"/>
                <a:tab algn="l" pos="3274920"/>
                <a:tab algn="l" pos="3732120"/>
                <a:tab algn="l" pos="4189320"/>
                <a:tab algn="l" pos="4646520"/>
                <a:tab algn="l" pos="5103720"/>
                <a:tab algn="l" pos="5560920"/>
                <a:tab algn="l" pos="6018120"/>
                <a:tab algn="l" pos="6475320"/>
                <a:tab algn="l" pos="6932520"/>
                <a:tab algn="l" pos="7389720"/>
                <a:tab algn="l" pos="7846920"/>
                <a:tab algn="l" pos="8304120"/>
                <a:tab algn="l" pos="8761320"/>
                <a:tab algn="l" pos="9218520"/>
                <a:tab algn="l" pos="9601200"/>
                <a:tab algn="l" pos="10058400"/>
                <a:tab algn="l" pos="105156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US Regulations require Emergency Service calls: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417600" indent="-312840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19040"/>
                <a:tab algn="l" pos="531720"/>
                <a:tab algn="l" pos="988920"/>
                <a:tab algn="l" pos="1446120"/>
                <a:tab algn="l" pos="1903320"/>
                <a:tab algn="l" pos="2360520"/>
                <a:tab algn="l" pos="2817720"/>
                <a:tab algn="l" pos="3274920"/>
                <a:tab algn="l" pos="3732120"/>
                <a:tab algn="l" pos="4189320"/>
                <a:tab algn="l" pos="4646520"/>
                <a:tab algn="l" pos="5103720"/>
                <a:tab algn="l" pos="5560920"/>
                <a:tab algn="l" pos="6018120"/>
                <a:tab algn="l" pos="6475320"/>
                <a:tab algn="l" pos="6932520"/>
                <a:tab algn="l" pos="7389720"/>
                <a:tab algn="l" pos="7846920"/>
                <a:tab algn="l" pos="8304120"/>
                <a:tab algn="l" pos="8761320"/>
                <a:tab algn="l" pos="9218520"/>
                <a:tab algn="l" pos="9601200"/>
                <a:tab algn="l" pos="10058400"/>
                <a:tab algn="l" pos="105156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Be directed to the appropriate PSAP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417600" indent="-312840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19040"/>
                <a:tab algn="l" pos="531720"/>
                <a:tab algn="l" pos="988920"/>
                <a:tab algn="l" pos="1446120"/>
                <a:tab algn="l" pos="1903320"/>
                <a:tab algn="l" pos="2360520"/>
                <a:tab algn="l" pos="2817720"/>
                <a:tab algn="l" pos="3274920"/>
                <a:tab algn="l" pos="3732120"/>
                <a:tab algn="l" pos="4189320"/>
                <a:tab algn="l" pos="4646520"/>
                <a:tab algn="l" pos="5103720"/>
                <a:tab algn="l" pos="5560920"/>
                <a:tab algn="l" pos="6018120"/>
                <a:tab algn="l" pos="6475320"/>
                <a:tab algn="l" pos="6932520"/>
                <a:tab algn="l" pos="7389720"/>
                <a:tab algn="l" pos="7846920"/>
                <a:tab algn="l" pos="8304120"/>
                <a:tab algn="l" pos="8761320"/>
                <a:tab algn="l" pos="9218520"/>
                <a:tab algn="l" pos="9601200"/>
                <a:tab algn="l" pos="10058400"/>
                <a:tab algn="l" pos="105156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arry originating location information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417600" indent="-312840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19040"/>
                <a:tab algn="l" pos="531720"/>
                <a:tab algn="l" pos="988920"/>
                <a:tab algn="l" pos="1446120"/>
                <a:tab algn="l" pos="1903320"/>
                <a:tab algn="l" pos="2360520"/>
                <a:tab algn="l" pos="2817720"/>
                <a:tab algn="l" pos="3274920"/>
                <a:tab algn="l" pos="3732120"/>
                <a:tab algn="l" pos="4189320"/>
                <a:tab algn="l" pos="4646520"/>
                <a:tab algn="l" pos="5103720"/>
                <a:tab algn="l" pos="5560920"/>
                <a:tab algn="l" pos="6018120"/>
                <a:tab algn="l" pos="6475320"/>
                <a:tab algn="l" pos="6932520"/>
                <a:tab algn="l" pos="7389720"/>
                <a:tab algn="l" pos="7846920"/>
                <a:tab algn="l" pos="8304120"/>
                <a:tab algn="l" pos="8761320"/>
                <a:tab algn="l" pos="9218520"/>
                <a:tab algn="l" pos="9601200"/>
                <a:tab algn="l" pos="10058400"/>
                <a:tab algn="l" pos="105156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Provide sufficient information for PSAP call-back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417600" indent="0">
              <a:lnSpc>
                <a:spcPct val="73000"/>
              </a:lnSpc>
              <a:spcAft>
                <a:spcPts val="1426"/>
              </a:spcAft>
              <a:buNone/>
              <a:tabLst>
                <a:tab algn="l" pos="0"/>
                <a:tab algn="l" pos="419040"/>
                <a:tab algn="l" pos="531720"/>
                <a:tab algn="l" pos="988920"/>
                <a:tab algn="l" pos="1446120"/>
                <a:tab algn="l" pos="1903320"/>
                <a:tab algn="l" pos="2360520"/>
                <a:tab algn="l" pos="2817720"/>
                <a:tab algn="l" pos="3274920"/>
                <a:tab algn="l" pos="3732120"/>
                <a:tab algn="l" pos="4189320"/>
                <a:tab algn="l" pos="4646520"/>
                <a:tab algn="l" pos="5103720"/>
                <a:tab algn="l" pos="5560920"/>
                <a:tab algn="l" pos="6018120"/>
                <a:tab algn="l" pos="6475320"/>
                <a:tab algn="l" pos="6932520"/>
                <a:tab algn="l" pos="7389720"/>
                <a:tab algn="l" pos="7846920"/>
                <a:tab algn="l" pos="8304120"/>
                <a:tab algn="l" pos="8761320"/>
                <a:tab algn="l" pos="9218520"/>
                <a:tab algn="l" pos="9601200"/>
                <a:tab algn="l" pos="10058400"/>
                <a:tab algn="l" pos="105156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Not required but possibly desirable to consider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417600" indent="-312840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19040"/>
                <a:tab algn="l" pos="531720"/>
                <a:tab algn="l" pos="988920"/>
                <a:tab algn="l" pos="1446120"/>
                <a:tab algn="l" pos="1903320"/>
                <a:tab algn="l" pos="2360520"/>
                <a:tab algn="l" pos="2817720"/>
                <a:tab algn="l" pos="3274920"/>
                <a:tab algn="l" pos="3732120"/>
                <a:tab algn="l" pos="4189320"/>
                <a:tab algn="l" pos="4646520"/>
                <a:tab algn="l" pos="5103720"/>
                <a:tab algn="l" pos="5560920"/>
                <a:tab algn="l" pos="6018120"/>
                <a:tab algn="l" pos="6475320"/>
                <a:tab algn="l" pos="6932520"/>
                <a:tab algn="l" pos="7389720"/>
                <a:tab algn="l" pos="7846920"/>
                <a:tab algn="l" pos="8304120"/>
                <a:tab algn="l" pos="8761320"/>
                <a:tab algn="l" pos="9218520"/>
                <a:tab algn="l" pos="9601200"/>
                <a:tab algn="l" pos="10058400"/>
                <a:tab algn="l" pos="105156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ubscriber station authentication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417600" indent="-312840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19040"/>
                <a:tab algn="l" pos="531720"/>
                <a:tab algn="l" pos="988920"/>
                <a:tab algn="l" pos="1446120"/>
                <a:tab algn="l" pos="1903320"/>
                <a:tab algn="l" pos="2360520"/>
                <a:tab algn="l" pos="2817720"/>
                <a:tab algn="l" pos="3274920"/>
                <a:tab algn="l" pos="3732120"/>
                <a:tab algn="l" pos="4189320"/>
                <a:tab algn="l" pos="4646520"/>
                <a:tab algn="l" pos="5103720"/>
                <a:tab algn="l" pos="5560920"/>
                <a:tab algn="l" pos="6018120"/>
                <a:tab algn="l" pos="6475320"/>
                <a:tab algn="l" pos="6932520"/>
                <a:tab algn="l" pos="7389720"/>
                <a:tab algn="l" pos="7846920"/>
                <a:tab algn="l" pos="8304120"/>
                <a:tab algn="l" pos="8761320"/>
                <a:tab algn="l" pos="9218520"/>
                <a:tab algn="l" pos="9601200"/>
                <a:tab algn="l" pos="10058400"/>
                <a:tab algn="l" pos="105156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rvice to unauthenticated users</a:t>
            </a:r>
            <a:br>
              <a:rPr sz="3100"/>
            </a:b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(though not in all countries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417600" indent="-312840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19040"/>
                <a:tab algn="l" pos="531720"/>
                <a:tab algn="l" pos="988920"/>
                <a:tab algn="l" pos="1446120"/>
                <a:tab algn="l" pos="1903320"/>
                <a:tab algn="l" pos="2360520"/>
                <a:tab algn="l" pos="2817720"/>
                <a:tab algn="l" pos="3274920"/>
                <a:tab algn="l" pos="3732120"/>
                <a:tab algn="l" pos="4189320"/>
                <a:tab algn="l" pos="4646520"/>
                <a:tab algn="l" pos="5103720"/>
                <a:tab algn="l" pos="5560920"/>
                <a:tab algn="l" pos="6018120"/>
                <a:tab algn="l" pos="6475320"/>
                <a:tab algn="l" pos="6932520"/>
                <a:tab algn="l" pos="7389720"/>
                <a:tab algn="l" pos="7846920"/>
                <a:tab algn="l" pos="8304120"/>
                <a:tab algn="l" pos="8761320"/>
                <a:tab algn="l" pos="9218520"/>
                <a:tab algn="l" pos="9601200"/>
                <a:tab algn="l" pos="10058400"/>
                <a:tab algn="l" pos="105156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Assured access capability for Emergency Service call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CC Consumer Info She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384120" y="1373040"/>
            <a:ext cx="9385200" cy="27194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504720" y="4630680"/>
            <a:ext cx="9070920" cy="11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http://www.fcc.gov/cgb/consumerfacts/voip911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Example:) US Requirement</a:t>
            </a:r>
            <a:br>
              <a:rPr sz="44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adapted from:</a:t>
            </a:r>
            <a:r>
              <a:rPr b="0" lang="en-US" sz="22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0" lang="en-US" sz="22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www.fcc.gov</a:t>
            </a:r>
            <a:r>
              <a:rPr b="0" lang="en-US" sz="2200" spc="-1" strike="noStrike">
                <a:solidFill>
                  <a:srgbClr val="000080"/>
                </a:solidFill>
                <a:latin typeface="Arial"/>
              </a:rPr>
              <a:t> / cgb / consumerfacts / voip911.pdf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t">
            <a:normAutofit/>
          </a:bodyPr>
          <a:p>
            <a:pPr marL="4190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0840"/>
                <a:tab algn="l" pos="533520"/>
                <a:tab algn="l" pos="990720"/>
                <a:tab algn="l" pos="1447920"/>
                <a:tab algn="l" pos="1905120"/>
                <a:tab algn="l" pos="2362320"/>
                <a:tab algn="l" pos="2819520"/>
                <a:tab algn="l" pos="3276720"/>
                <a:tab algn="l" pos="3733920"/>
                <a:tab algn="l" pos="4191120"/>
                <a:tab algn="l" pos="4648320"/>
                <a:tab algn="l" pos="5105520"/>
                <a:tab algn="l" pos="5562720"/>
                <a:tab algn="l" pos="6019920"/>
                <a:tab algn="l" pos="6477120"/>
                <a:tab algn="l" pos="6934320"/>
                <a:tab algn="l" pos="7391520"/>
                <a:tab algn="l" pos="7848720"/>
                <a:tab algn="l" pos="8305920"/>
                <a:tab algn="l" pos="8763120"/>
                <a:tab algn="l" pos="922032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US FCC has imposed the following requirement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19040" indent="-314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0840"/>
                <a:tab algn="l" pos="533520"/>
                <a:tab algn="l" pos="990720"/>
                <a:tab algn="l" pos="1447920"/>
                <a:tab algn="l" pos="1905120"/>
                <a:tab algn="l" pos="2362320"/>
                <a:tab algn="l" pos="2819520"/>
                <a:tab algn="l" pos="3276720"/>
                <a:tab algn="l" pos="3733920"/>
                <a:tab algn="l" pos="4191120"/>
                <a:tab algn="l" pos="4648320"/>
                <a:tab algn="l" pos="5105520"/>
                <a:tab algn="l" pos="5562720"/>
                <a:tab algn="l" pos="6019920"/>
                <a:tab algn="l" pos="6477120"/>
                <a:tab algn="l" pos="6934320"/>
                <a:tab algn="l" pos="7391520"/>
                <a:tab algn="l" pos="7848720"/>
                <a:tab algn="l" pos="8305920"/>
                <a:tab algn="l" pos="8763120"/>
                <a:tab algn="l" pos="922032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ll interconnected VoIP providers must automatically provide 911 service to all their customers as a standard, mandatory feature without customers having to specifically request this service.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VoIP providers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may not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allow their customers to “opt-out” of 911 servic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quirements: Other count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t">
            <a:normAutofit/>
          </a:bodyPr>
          <a:p>
            <a:pPr marL="419040" indent="-314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19040"/>
                <a:tab algn="l" pos="531720"/>
                <a:tab algn="l" pos="988920"/>
                <a:tab algn="l" pos="1446120"/>
                <a:tab algn="l" pos="1903320"/>
                <a:tab algn="l" pos="2360520"/>
                <a:tab algn="l" pos="2817720"/>
                <a:tab algn="l" pos="3274920"/>
                <a:tab algn="l" pos="3732120"/>
                <a:tab algn="l" pos="4189320"/>
                <a:tab algn="l" pos="4646520"/>
                <a:tab algn="l" pos="5103720"/>
                <a:tab algn="l" pos="5560920"/>
                <a:tab algn="l" pos="6018120"/>
                <a:tab algn="l" pos="6475320"/>
                <a:tab algn="l" pos="6932520"/>
                <a:tab algn="l" pos="7389720"/>
                <a:tab algn="l" pos="7846920"/>
                <a:tab algn="l" pos="8304120"/>
                <a:tab algn="l" pos="8761320"/>
                <a:tab algn="l" pos="921852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ther countries have similar requirement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19040" indent="-314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19040"/>
                <a:tab algn="l" pos="531720"/>
                <a:tab algn="l" pos="988920"/>
                <a:tab algn="l" pos="1446120"/>
                <a:tab algn="l" pos="1903320"/>
                <a:tab algn="l" pos="2360520"/>
                <a:tab algn="l" pos="2817720"/>
                <a:tab algn="l" pos="3274920"/>
                <a:tab algn="l" pos="3732120"/>
                <a:tab algn="l" pos="4189320"/>
                <a:tab algn="l" pos="4646520"/>
                <a:tab algn="l" pos="5103720"/>
                <a:tab algn="l" pos="5560920"/>
                <a:tab algn="l" pos="6018120"/>
                <a:tab algn="l" pos="6475320"/>
                <a:tab algn="l" pos="6932520"/>
                <a:tab algn="l" pos="7389720"/>
                <a:tab algn="l" pos="7846920"/>
                <a:tab algn="l" pos="8304120"/>
                <a:tab algn="l" pos="8761320"/>
                <a:tab algn="l" pos="921852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re are national differences, especially with respect to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51040" indent="-31752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19040"/>
                <a:tab algn="l" pos="531720"/>
                <a:tab algn="l" pos="988920"/>
                <a:tab algn="l" pos="1446120"/>
                <a:tab algn="l" pos="1903320"/>
                <a:tab algn="l" pos="2360520"/>
                <a:tab algn="l" pos="2817720"/>
                <a:tab algn="l" pos="3274920"/>
                <a:tab algn="l" pos="3732120"/>
                <a:tab algn="l" pos="4189320"/>
                <a:tab algn="l" pos="4646520"/>
                <a:tab algn="l" pos="5103720"/>
                <a:tab algn="l" pos="5560920"/>
                <a:tab algn="l" pos="6018120"/>
                <a:tab algn="l" pos="6475320"/>
                <a:tab algn="l" pos="6932520"/>
                <a:tab algn="l" pos="7389720"/>
                <a:tab algn="l" pos="7846920"/>
                <a:tab algn="l" pos="8304120"/>
                <a:tab algn="l" pos="8761320"/>
                <a:tab algn="l" pos="921852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ergency numbers other than “911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1040" indent="-31752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19040"/>
                <a:tab algn="l" pos="531720"/>
                <a:tab algn="l" pos="988920"/>
                <a:tab algn="l" pos="1446120"/>
                <a:tab algn="l" pos="1903320"/>
                <a:tab algn="l" pos="2360520"/>
                <a:tab algn="l" pos="2817720"/>
                <a:tab algn="l" pos="3274920"/>
                <a:tab algn="l" pos="3732120"/>
                <a:tab algn="l" pos="4189320"/>
                <a:tab algn="l" pos="4646520"/>
                <a:tab algn="l" pos="5103720"/>
                <a:tab algn="l" pos="5560920"/>
                <a:tab algn="l" pos="6018120"/>
                <a:tab algn="l" pos="6475320"/>
                <a:tab algn="l" pos="6932520"/>
                <a:tab algn="l" pos="7389720"/>
                <a:tab algn="l" pos="7846920"/>
                <a:tab algn="l" pos="8304120"/>
                <a:tab algn="l" pos="8761320"/>
                <a:tab algn="l" pos="921852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e: http://www.sccfd.org/travel.htm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1040" indent="-31752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19040"/>
                <a:tab algn="l" pos="531720"/>
                <a:tab algn="l" pos="988920"/>
                <a:tab algn="l" pos="1446120"/>
                <a:tab algn="l" pos="1903320"/>
                <a:tab algn="l" pos="2360520"/>
                <a:tab algn="l" pos="2817720"/>
                <a:tab algn="l" pos="3274920"/>
                <a:tab algn="l" pos="3732120"/>
                <a:tab algn="l" pos="4189320"/>
                <a:tab algn="l" pos="4646520"/>
                <a:tab algn="l" pos="5103720"/>
                <a:tab algn="l" pos="5560920"/>
                <a:tab algn="l" pos="6018120"/>
                <a:tab algn="l" pos="6475320"/>
                <a:tab algn="l" pos="6932520"/>
                <a:tab algn="l" pos="7389720"/>
                <a:tab algn="l" pos="7846920"/>
                <a:tab algn="l" pos="8304120"/>
                <a:tab algn="l" pos="8761320"/>
                <a:tab algn="l" pos="921852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untries have several numb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1040" indent="-31752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19040"/>
                <a:tab algn="l" pos="531720"/>
                <a:tab algn="l" pos="988920"/>
                <a:tab algn="l" pos="1446120"/>
                <a:tab algn="l" pos="1903320"/>
                <a:tab algn="l" pos="2360520"/>
                <a:tab algn="l" pos="2817720"/>
                <a:tab algn="l" pos="3274920"/>
                <a:tab algn="l" pos="3732120"/>
                <a:tab algn="l" pos="4189320"/>
                <a:tab algn="l" pos="4646520"/>
                <a:tab algn="l" pos="5103720"/>
                <a:tab algn="l" pos="5560920"/>
                <a:tab algn="l" pos="6018120"/>
                <a:tab algn="l" pos="6475320"/>
                <a:tab algn="l" pos="6932520"/>
                <a:tab algn="l" pos="7389720"/>
                <a:tab algn="l" pos="7846920"/>
                <a:tab algn="l" pos="8304120"/>
                <a:tab algn="l" pos="8761320"/>
                <a:tab algn="l" pos="921852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untries prohibit location inf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1040" indent="-31752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19040"/>
                <a:tab algn="l" pos="531720"/>
                <a:tab algn="l" pos="988920"/>
                <a:tab algn="l" pos="1446120"/>
                <a:tab algn="l" pos="1903320"/>
                <a:tab algn="l" pos="2360520"/>
                <a:tab algn="l" pos="2817720"/>
                <a:tab algn="l" pos="3274920"/>
                <a:tab algn="l" pos="3732120"/>
                <a:tab algn="l" pos="4189320"/>
                <a:tab algn="l" pos="4646520"/>
                <a:tab algn="l" pos="5103720"/>
                <a:tab algn="l" pos="5560920"/>
                <a:tab algn="l" pos="6018120"/>
                <a:tab algn="l" pos="6475320"/>
                <a:tab algn="l" pos="6932520"/>
                <a:tab algn="l" pos="7389720"/>
                <a:tab algn="l" pos="7846920"/>
                <a:tab algn="l" pos="8304120"/>
                <a:tab algn="l" pos="8761320"/>
                <a:tab algn="l" pos="921852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detai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2920" y="290520"/>
            <a:ext cx="9070920" cy="128592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ed Problem lies in Multiple Domai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19040" indent="-314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19040"/>
                <a:tab algn="l" pos="531720"/>
                <a:tab algn="l" pos="988920"/>
                <a:tab algn="l" pos="1446120"/>
                <a:tab algn="l" pos="1903320"/>
                <a:tab algn="l" pos="2360520"/>
                <a:tab algn="l" pos="2817720"/>
                <a:tab algn="l" pos="3274920"/>
                <a:tab algn="l" pos="3732120"/>
                <a:tab algn="l" pos="4189320"/>
                <a:tab algn="l" pos="4646520"/>
                <a:tab algn="l" pos="5103720"/>
                <a:tab algn="l" pos="5560920"/>
                <a:tab algn="l" pos="6018120"/>
                <a:tab algn="l" pos="6475320"/>
                <a:tab algn="l" pos="6932520"/>
                <a:tab algn="l" pos="7389720"/>
                <a:tab algn="l" pos="7846920"/>
                <a:tab algn="l" pos="8304120"/>
                <a:tab algn="l" pos="8761320"/>
                <a:tab algn="l" pos="921852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P, routing and higher layer portions of the problem belong to the IET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9040" indent="-314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19040"/>
                <a:tab algn="l" pos="531720"/>
                <a:tab algn="l" pos="988920"/>
                <a:tab algn="l" pos="1446120"/>
                <a:tab algn="l" pos="1903320"/>
                <a:tab algn="l" pos="2360520"/>
                <a:tab algn="l" pos="2817720"/>
                <a:tab algn="l" pos="3274920"/>
                <a:tab algn="l" pos="3732120"/>
                <a:tab algn="l" pos="4189320"/>
                <a:tab algn="l" pos="4646520"/>
                <a:tab algn="l" pos="5103720"/>
                <a:tab algn="l" pos="5560920"/>
                <a:tab algn="l" pos="6018120"/>
                <a:tab algn="l" pos="6475320"/>
                <a:tab algn="l" pos="6932520"/>
                <a:tab algn="l" pos="7389720"/>
                <a:tab algn="l" pos="7846920"/>
                <a:tab algn="l" pos="8304120"/>
                <a:tab algn="l" pos="8761320"/>
                <a:tab algn="l" pos="921852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problems are being addressed primarily by IETF ECR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9040" indent="-314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19040"/>
                <a:tab algn="l" pos="531720"/>
                <a:tab algn="l" pos="988920"/>
                <a:tab algn="l" pos="1446120"/>
                <a:tab algn="l" pos="1903320"/>
                <a:tab algn="l" pos="2360520"/>
                <a:tab algn="l" pos="2817720"/>
                <a:tab algn="l" pos="3274920"/>
                <a:tab algn="l" pos="3732120"/>
                <a:tab algn="l" pos="4189320"/>
                <a:tab algn="l" pos="4646520"/>
                <a:tab algn="l" pos="5103720"/>
                <a:tab algn="l" pos="5560920"/>
                <a:tab algn="l" pos="6018120"/>
                <a:tab algn="l" pos="6475320"/>
                <a:tab algn="l" pos="6932520"/>
                <a:tab algn="l" pos="7389720"/>
                <a:tab algn="l" pos="7846920"/>
                <a:tab algn="l" pos="8304120"/>
                <a:tab algn="l" pos="8761320"/>
                <a:tab algn="l" pos="921852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below Layer 3 portion of the problem is for 802 to addr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9040" indent="-314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19040"/>
                <a:tab algn="l" pos="531720"/>
                <a:tab algn="l" pos="988920"/>
                <a:tab algn="l" pos="1446120"/>
                <a:tab algn="l" pos="1903320"/>
                <a:tab algn="l" pos="2360520"/>
                <a:tab algn="l" pos="2817720"/>
                <a:tab algn="l" pos="3274920"/>
                <a:tab algn="l" pos="3732120"/>
                <a:tab algn="l" pos="4189320"/>
                <a:tab algn="l" pos="4646520"/>
                <a:tab algn="l" pos="5103720"/>
                <a:tab algn="l" pos="5560920"/>
                <a:tab algn="l" pos="6018120"/>
                <a:tab algn="l" pos="6475320"/>
                <a:tab algn="l" pos="6932520"/>
                <a:tab algn="l" pos="7389720"/>
                <a:tab algn="l" pos="7846920"/>
                <a:tab algn="l" pos="8304120"/>
                <a:tab algn="l" pos="8761320"/>
                <a:tab algn="l" pos="921852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02.11 and 802.16 have already done some explicit work in this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9040" indent="-314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19040"/>
                <a:tab algn="l" pos="531720"/>
                <a:tab algn="l" pos="988920"/>
                <a:tab algn="l" pos="1446120"/>
                <a:tab algn="l" pos="1903320"/>
                <a:tab algn="l" pos="2360520"/>
                <a:tab algn="l" pos="2817720"/>
                <a:tab algn="l" pos="3274920"/>
                <a:tab algn="l" pos="3732120"/>
                <a:tab algn="l" pos="4189320"/>
                <a:tab algn="l" pos="4646520"/>
                <a:tab algn="l" pos="5103720"/>
                <a:tab algn="l" pos="5560920"/>
                <a:tab algn="l" pos="6018120"/>
                <a:tab algn="l" pos="6475320"/>
                <a:tab algn="l" pos="6932520"/>
                <a:tab algn="l" pos="7389720"/>
                <a:tab algn="l" pos="7846920"/>
                <a:tab algn="l" pos="8304120"/>
                <a:tab algn="l" pos="8761320"/>
                <a:tab algn="l" pos="921852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s to be handled uniformly across 80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802 Probl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2920" y="1479240"/>
            <a:ext cx="9070920" cy="5375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414720" indent="-3110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19040"/>
                <a:tab algn="l" pos="531720"/>
                <a:tab algn="l" pos="988920"/>
                <a:tab algn="l" pos="1446120"/>
                <a:tab algn="l" pos="1903320"/>
                <a:tab algn="l" pos="2360520"/>
                <a:tab algn="l" pos="2817720"/>
                <a:tab algn="l" pos="3274920"/>
                <a:tab algn="l" pos="3732120"/>
                <a:tab algn="l" pos="4189320"/>
                <a:tab algn="l" pos="4646520"/>
                <a:tab algn="l" pos="5103720"/>
                <a:tab algn="l" pos="5560920"/>
                <a:tab algn="l" pos="6018120"/>
                <a:tab algn="l" pos="6475320"/>
                <a:tab algn="l" pos="6932520"/>
                <a:tab algn="l" pos="7389720"/>
                <a:tab algn="l" pos="7846920"/>
                <a:tab algn="l" pos="8304120"/>
                <a:tab algn="l" pos="8761320"/>
                <a:tab algn="l" pos="921852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EEE 802 needs a single standard so that IP applications “should” not need to know which 802 MAC is currently being us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4720" indent="-3110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19040"/>
                <a:tab algn="l" pos="531720"/>
                <a:tab algn="l" pos="988920"/>
                <a:tab algn="l" pos="1446120"/>
                <a:tab algn="l" pos="1903320"/>
                <a:tab algn="l" pos="2360520"/>
                <a:tab algn="l" pos="2817720"/>
                <a:tab algn="l" pos="3274920"/>
                <a:tab algn="l" pos="3732120"/>
                <a:tab algn="l" pos="4189320"/>
                <a:tab algn="l" pos="4646520"/>
                <a:tab algn="l" pos="5103720"/>
                <a:tab algn="l" pos="5560920"/>
                <a:tab algn="l" pos="6018120"/>
                <a:tab algn="l" pos="6475320"/>
                <a:tab algn="l" pos="6932520"/>
                <a:tab algn="l" pos="7389720"/>
                <a:tab algn="l" pos="7846920"/>
                <a:tab algn="l" pos="8304120"/>
                <a:tab algn="l" pos="8761320"/>
                <a:tab algn="l" pos="921852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envisioned as a “shim layer” that goes between an 802 end station MAC and its upper layer cli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4720" indent="-3110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19040"/>
                <a:tab algn="l" pos="531720"/>
                <a:tab algn="l" pos="988920"/>
                <a:tab algn="l" pos="1446120"/>
                <a:tab algn="l" pos="1903320"/>
                <a:tab algn="l" pos="2360520"/>
                <a:tab algn="l" pos="2817720"/>
                <a:tab algn="l" pos="3274920"/>
                <a:tab algn="l" pos="3732120"/>
                <a:tab algn="l" pos="4189320"/>
                <a:tab algn="l" pos="4646520"/>
                <a:tab algn="l" pos="5103720"/>
                <a:tab algn="l" pos="5560920"/>
                <a:tab algn="l" pos="6018120"/>
                <a:tab algn="l" pos="6475320"/>
                <a:tab algn="l" pos="6932520"/>
                <a:tab algn="l" pos="7389720"/>
                <a:tab algn="l" pos="7846920"/>
                <a:tab algn="l" pos="8304120"/>
                <a:tab algn="l" pos="8761320"/>
                <a:tab algn="l" pos="921852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may be similar pieces required for 802.1 relays to add per-hop location informat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may be required for location back-up information when no end-location information is provided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0T06:02:31Z</dcterms:created>
  <dc:creator>Geoff Thompson</dc:creator>
  <dc:description/>
  <dc:language>en-US</dc:language>
  <cp:lastModifiedBy>Geoff Thompson</cp:lastModifiedBy>
  <dcterms:modified xsi:type="dcterms:W3CDTF">2010-02-11T21:42:11Z</dcterms:modified>
  <cp:revision>272</cp:revision>
  <dc:subject/>
  <dc:title/>
</cp:coreProperties>
</file>